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17E-DC28-4ED2-A25A-64033BE5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613-67E8-4C48-A3FB-19D0FD8E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0A3-11E8-4B47-8C80-0040A4F2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35C-434A-41F1-8DCC-E38DC853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375-759B-41D8-8038-6D976042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32C-9814-4404-9CB6-D83935AF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01C-B1DD-4032-87F4-400C6099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ADF-F1CA-4942-96F8-43FA0087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879-D28B-43A7-B74B-A7556202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761-D1EE-43FF-B269-205335D6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3AD-ACA5-4ECE-8009-5E67BD3C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A3C-4D52-4038-B9A0-1BCAE419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6381-7B75-4173-B319-704538A8F2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2.xml"/><Relationship Id="rId6" Type="http://schemas.openxmlformats.org/officeDocument/2006/relationships/slide" Target="slide4.xml"/><Relationship Id="rId7" Type="http://schemas.openxmlformats.org/officeDocument/2006/relationships/slide" Target="slide14.xml"/><Relationship Id="rId8" Type="http://schemas.openxmlformats.org/officeDocument/2006/relationships/slide" Target="slide24.xml"/><Relationship Id="rId9" Type="http://schemas.openxmlformats.org/officeDocument/2006/relationships/slide" Target="slide34.xml"/><Relationship Id="rId10" Type="http://schemas.openxmlformats.org/officeDocument/2006/relationships/slide" Target="slide44.xml"/><Relationship Id="rId11" Type="http://schemas.openxmlformats.org/officeDocument/2006/relationships/slide" Target="slide6.xml"/><Relationship Id="rId12" Type="http://schemas.openxmlformats.org/officeDocument/2006/relationships/slide" Target="slide16.xml"/><Relationship Id="rId13" Type="http://schemas.openxmlformats.org/officeDocument/2006/relationships/slide" Target="slide26.xml"/><Relationship Id="rId14" Type="http://schemas.openxmlformats.org/officeDocument/2006/relationships/slide" Target="slide36.xml"/><Relationship Id="rId15" Type="http://schemas.openxmlformats.org/officeDocument/2006/relationships/slide" Target="slide46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0880" y="380880"/>
          <a:ext cx="8458200" cy="6096240"/>
        </p:xfrm>
        <a:graphic>
          <a:graphicData uri="http://schemas.openxmlformats.org/drawingml/2006/table">
            <a:tbl>
              <a:tblPr/>
              <a:tblGrid>
                <a:gridCol w="1692360"/>
                <a:gridCol w="1690560"/>
                <a:gridCol w="1692360"/>
                <a:gridCol w="1690920"/>
                <a:gridCol w="1692000"/>
              </a:tblGrid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bul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derful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s from Lab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ntra-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ds n E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erm to describe liquids that are insoluble in one anoth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Immiscib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two elements in a water molecu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Hydrogen and Oxyge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0240" y="-30492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movement of water through out the environmen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Water Cyc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Because water has a positively charged end and a negatively charged end, it is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pola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property of water that allows molecules to stick to eachoth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hes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sugar in a glass of lemonad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Because water dissolves  more substances than any other liquid, it is called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Universal Solven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mpared to a sugar cube, crushed sugar dissolves _________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fast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mpared to pure water, salt water freezes ________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low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o supersature the sugar solution used to make rock candy, you must do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Increase temperatu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Arial"/>
              </a:rPr>
              <a:t>When you do this to a solution, you increase how quickly solute dissolves, but NOT the amount that can be dissolved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Agitat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OLUT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Double Jeopardy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wo of the three methods you can use to separate a solu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Formula for calculating the concentration of a solu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ff"/>
                </a:solidFill>
                <a:uFillTx/>
                <a:latin typeface="Arial"/>
              </a:rPr>
              <a:t>Mass of solute </a:t>
            </a:r>
            <a:br>
              <a:rPr sz="7200"/>
            </a:b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Volume of solu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ncentration of 20g of sugar in 1000mL of wat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20g/L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Grams of Solute in 1.5L of solution if 1.0L of solution has 30g of Solut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ff"/>
                </a:solidFill>
                <a:uFillTx/>
                <a:latin typeface="Arial"/>
              </a:rPr>
              <a:t>30</a:t>
            </a: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  =  </a:t>
            </a:r>
            <a:r>
              <a:rPr b="0" lang="en-US" sz="7200" spc="-1" strike="noStrike" u="sng">
                <a:solidFill>
                  <a:srgbClr val="ccffff"/>
                </a:solidFill>
                <a:uFillTx/>
                <a:latin typeface="Arial"/>
              </a:rPr>
              <a:t>x</a:t>
            </a:r>
            <a:br>
              <a:rPr sz="7200"/>
            </a:b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1.0    1.5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x = 40g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25g solute are dissolved in 75g of water.  What is the % by mass of solute?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25g solute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75g water +25g solu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5943600" y="826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100% 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2290680" y="2798640"/>
            <a:ext cx="6629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Arial"/>
              </a:rPr>
              <a:t>25% 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water in a cup of tea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l 4 Answer 5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Col 4 Question 5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After condensation, the part of a solution that remai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olven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After Evaporation, the part of the solution that remai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olut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Process of evaporating a liquid then condensing the gas back to a liquid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distilla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Adding antifreeze to a car’s cooling system is an example of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Boiling Point depress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olven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The law of conservation of mas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Matter can neither be destroyed or created, it can only change form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If you placed a stone into a bowl of oil you would see it is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insolub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When there is extra sugar sitting at the bottom of a pitcher of koolaid, the solution is th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Saturated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6:52:22Z</dcterms:created>
  <dc:creator>mpgross</dc:creator>
  <dc:description/>
  <dc:language>en-US</dc:language>
  <cp:lastModifiedBy>SADA GANSKE</cp:lastModifiedBy>
  <dcterms:modified xsi:type="dcterms:W3CDTF">2012-02-28T14:57:17Z</dcterms:modified>
  <cp:revision>32</cp:revision>
  <dc:subject/>
  <dc:title>Slide 1</dc:title>
</cp:coreProperties>
</file>